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omas the Trai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e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902120" y="3276720"/>
            <a:ext cx="3187800" cy="31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er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4737240" y="311148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ill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4508640" y="2882880"/>
            <a:ext cx="3987720" cy="39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oC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673520" y="3048120"/>
            <a:ext cx="3645000" cy="36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gly the Double decker Bu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330800" y="283212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trode the Barg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749840" y="3122640"/>
            <a:ext cx="3505320" cy="35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ster the Steamrolle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419720" y="2933640"/>
            <a:ext cx="387324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utch the Tow Truck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457880" y="2946240"/>
            <a:ext cx="3848040" cy="38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yron the Bulldoze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4356000" y="285768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aptai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4762440" y="261612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oma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4178160" y="2971800"/>
            <a:ext cx="439452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aroline the Ca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4444920" y="3111480"/>
            <a:ext cx="351792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atherin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4610160" y="2984400"/>
            <a:ext cx="378468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harli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648320" y="3022560"/>
            <a:ext cx="370836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hinese Drag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0" y="3073320"/>
            <a:ext cx="35942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ity of Trur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178160" y="2768760"/>
            <a:ext cx="3556080" cy="35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arabel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788000" y="3009960"/>
            <a:ext cx="318744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ir Topham H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762440" y="313704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da, Jane and Mabel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68680" y="1943280"/>
            <a:ext cx="5854680" cy="58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lfie the Excavato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4368960" y="2743200"/>
            <a:ext cx="425448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nni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711680" y="308628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rthu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584600" y="2959200"/>
            <a:ext cx="383544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ash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4622760" y="2997360"/>
            <a:ext cx="374652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Bel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762440" y="3137040"/>
            <a:ext cx="3467160" cy="346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